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DEC-47D2-43CC-84A1-045AF10F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F19-3766-4691-8659-FB163FD2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D70-D793-4DB9-9DA9-35126DD1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D04-3D6E-4AEB-8ABE-F4C1E63D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6C4E-D1EB-42AD-9C95-34C1D34B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D1E7-E59F-484E-A1FB-6DE8140E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3407-CA3D-40F6-9A69-CFF66EB5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C970-802D-48C4-BEB8-A11B537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7521-8CBD-4597-A4C4-97559ED9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F8D2-65CE-4B61-9664-985CD560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D89A-C887-4839-894E-C111B9D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EB5-B94A-487B-BE10-54EA710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8B4B-6CC7-4F8F-BF90-57256BA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5133-34FE-4D54-B552-AF6AA32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6D01-4E71-45E8-B8AE-51F6904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824B-0089-4616-BFCF-04561887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65D0-B7FA-4E6D-B557-997FD486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ED7-301F-4201-BD72-59A351FF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2DA-917B-4F94-BED1-236ACF9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DF4-C51E-4286-A13C-1CC5FAA7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762-F8F2-4926-8086-50E348E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DA4-9740-49D9-AAEB-208CB40F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03C-22C0-4245-8267-640570E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D33-5B84-4855-B7EC-1980D291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A62F-A8AC-4459-854B-237E6D635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03B7-B3AC-45F6-841B-A4743E094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istory.com/minisite.do?content_type=Minisite_Video_Clips&amp;display_order=1&amp;content_type_id=54612&amp;mini_id=51103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.2:  Fighting the Civi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ancipation Proclamation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5.  Emancipation Procla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aves are to be freed as part of a “weapon of war” just like any other resource - only in the seceding sta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ived as a war to free slaves - Upset both North and S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now unwilling to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File:EMANCI4.jpg"/>
          <p:cNvPicPr/>
          <p:nvPr/>
        </p:nvPicPr>
        <p:blipFill>
          <a:blip r:embed="rId1"/>
          <a:stretch/>
        </p:blipFill>
        <p:spPr>
          <a:xfrm>
            <a:off x="4648320" y="1971720"/>
            <a:ext cx="44956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6.  conscrip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on both sides due to heavy casua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 were exem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riots occurred in protest to the d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File:U.S. draft lottery.jpg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Life During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  A.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fight on Unions side; Army/N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 Wo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th rate impro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d fa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143000"/>
            <a:ext cx="45720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Sold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iness due to lack of san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 di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medical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39434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.  The Turning Po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le of Gettysburg, Pa.,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ly 186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point for the Un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derate soldiers retreat under command of Gen.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333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41120"/>
            <a:ext cx="891540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.  Damage of Gettysbur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51,000 casualties; killed or wou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deracy never reco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384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ttysburg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d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score and seven years ago…” p.1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ttysburg Address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“Remaking America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04760" y="2331720"/>
            <a:ext cx="69339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 are no longer a collection of states but a single n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.  Vicksburg (July 4) and Port Hudson (July 9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ports were captur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. Ulysses S. Grant (future president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sults from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 algn="ctr">
              <a:buClr>
                <a:srgbClr val="ffcc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arly Stages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 First Bloodshed-Bull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61: Union defea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Confederate soldiers thought war was over and went ho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 Should have continued on to D.C. but they were tired!! (What if…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’s morale in the south right about 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nt and Sherman’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ta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General Grant Portrait"/>
          <p:cNvPicPr/>
          <p:nvPr/>
        </p:nvPicPr>
        <p:blipFill>
          <a:blip r:embed="rId1"/>
          <a:stretch/>
        </p:blipFill>
        <p:spPr>
          <a:xfrm>
            <a:off x="996840" y="1981080"/>
            <a:ext cx="317664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W. T. Sherman"/>
          <p:cNvPicPr/>
          <p:nvPr/>
        </p:nvPicPr>
        <p:blipFill>
          <a:blip r:embed="rId2"/>
          <a:stretch/>
        </p:blipFill>
        <p:spPr>
          <a:xfrm>
            <a:off x="4700520" y="2050920"/>
            <a:ext cx="34592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.  Concept of Tota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Everything is 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hat can be used by southern military is to be destr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down will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5.  Sherman’s March to the Se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: to physically and psychologically destroy the Sou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 Grant in Richmond, 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history.com/minisite.do?content_type=Minisite_Video_Clips&amp;display_order=1&amp;content_type_id=54612&amp;mini_id=511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erman’s March to the S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99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64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ncoln is reelected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Image:Abraham Lincoln head on shoulders photo portrait.jpg"/>
          <p:cNvPicPr/>
          <p:nvPr/>
        </p:nvPicPr>
        <p:blipFill>
          <a:blip r:embed="rId1"/>
          <a:stretch/>
        </p:blipFill>
        <p:spPr>
          <a:xfrm>
            <a:off x="2971800" y="2666880"/>
            <a:ext cx="28386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6.  Lee Surrenders to Grant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t Appomattox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ch 186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2201760"/>
            <a:ext cx="9144000" cy="2455920"/>
            <a:chOff x="0" y="2201760"/>
            <a:chExt cx="9144000" cy="2455920"/>
          </a:xfrm>
        </p:grpSpPr>
        <p:sp>
          <p:nvSpPr>
            <p:cNvPr id="165" name=""/>
            <p:cNvSpPr/>
            <p:nvPr/>
          </p:nvSpPr>
          <p:spPr>
            <a:xfrm>
              <a:off x="0" y="220176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2201760"/>
              <a:ext cx="9144000" cy="2455920"/>
              <a:chOff x="0" y="2201760"/>
              <a:chExt cx="9144000" cy="24559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2201760"/>
                <a:ext cx="3795840" cy="24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2201760"/>
                <a:ext cx="9144000" cy="21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36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                                                 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9" name="" descr="The McLean House at Appomattox Court House National Historical Park."/>
          <p:cNvPicPr/>
          <p:nvPr/>
        </p:nvPicPr>
        <p:blipFill>
          <a:blip r:embed="rId1"/>
          <a:stretch/>
        </p:blipFill>
        <p:spPr>
          <a:xfrm>
            <a:off x="1447920" y="2209680"/>
            <a:ext cx="655308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Poli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s rights vs. Federal govt issues continued; secession never considered an option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govt’s power increased; more of a say  in individual citizens (taxes,conscription laws, suspension of habeas corp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 Econom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  No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was fabulous due to factories supplying the wa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e taxes introduced to pay for war then ended afte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ges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3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.  Sou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astat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 system had to be revam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 and livestock destroyed; fa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 and machinery destr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 Technologically - “Modern Wa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f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 gren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 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onclad 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.  The Naval W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 Blockade: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 South countered w/blockade ru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 Union takes control of Port New Orl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71600" y="2717640"/>
            <a:ext cx="64008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7.  The Nation Cha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 Soci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mendment: ends sla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grpSp>
          <p:nvGrpSpPr>
            <p:cNvPr id="180" name=""/>
            <p:cNvGrpSpPr/>
            <p:nvPr/>
          </p:nvGrpSpPr>
          <p:grpSpPr>
            <a:xfrm>
              <a:off x="7200" y="5400"/>
              <a:ext cx="9128160" cy="6846120"/>
              <a:chOff x="7200" y="5400"/>
              <a:chExt cx="9128160" cy="684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7200" y="5400"/>
                <a:ext cx="91281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00" y="5400"/>
                <a:ext cx="9128160" cy="684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noFill/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6720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57160" y="925560"/>
            <a:ext cx="7429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ohn Wilkes Boo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 y/o 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ril 14, 1865 shoots Lincoln in the head 5 days after Lee surrend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ril 15 Lincoln 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732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Image:Jwbooth.jpeg"/>
          <p:cNvPicPr/>
          <p:nvPr/>
        </p:nvPicPr>
        <p:blipFill>
          <a:blip r:embed="rId1"/>
          <a:stretch/>
        </p:blipFill>
        <p:spPr>
          <a:xfrm>
            <a:off x="5867280" y="1600200"/>
            <a:ext cx="26751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3240"/>
            <a:ext cx="76010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67816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6119640" cy="49352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tchen Du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conda Plan (PC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5" name="" descr="Image:Scott-anaconda.jpg"/>
          <p:cNvPicPr/>
          <p:nvPr/>
        </p:nvPicPr>
        <p:blipFill>
          <a:blip r:embed="rId1"/>
          <a:stretch/>
        </p:blipFill>
        <p:spPr>
          <a:xfrm>
            <a:off x="1143000" y="1463760"/>
            <a:ext cx="71121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1440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14400" y="180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4400" y="1806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400" y="1806480"/>
            <a:ext cx="4465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42560" tIns="-178920" bIns="-882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814400" y="1806480"/>
            <a:ext cx="8742240" cy="360"/>
            <a:chOff x="1814400" y="1806480"/>
            <a:chExt cx="8742240" cy="360"/>
          </a:xfrm>
        </p:grpSpPr>
        <p:sp>
          <p:nvSpPr>
            <p:cNvPr id="100" name=""/>
            <p:cNvSpPr/>
            <p:nvPr/>
          </p:nvSpPr>
          <p:spPr>
            <a:xfrm>
              <a:off x="1958760" y="1806480"/>
              <a:ext cx="84535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1806480"/>
              <a:ext cx="8742240" cy="360"/>
            </a:xfrm>
            <a:prstGeom prst="rect">
              <a:avLst/>
            </a:prstGeom>
            <a:solidFill>
              <a:srgbClr val="ffffff"/>
            </a:solidFill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386400" y="180648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The British steamer and Union blockage runner, Dee in the harbor at Hamilton, Bermuda, in 1863.  CORBIS"/>
          <p:cNvPicPr/>
          <p:nvPr/>
        </p:nvPicPr>
        <p:blipFill>
          <a:blip r:embed="rId1"/>
          <a:stretch/>
        </p:blipFill>
        <p:spPr>
          <a:xfrm>
            <a:off x="1066680" y="1676520"/>
            <a:ext cx="7848720" cy="4701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88"/>
                </a:solidFill>
                <a:latin typeface="Verdana"/>
                <a:ea typeface="Times New Roman"/>
              </a:rPr>
              <a:t>The British steamer and Union blockage runner, </a:t>
            </a:r>
            <a:r>
              <a:rPr b="1" i="1" lang="en-US" sz="1800" spc="-1" strike="noStrike">
                <a:solidFill>
                  <a:srgbClr val="888888"/>
                </a:solidFill>
                <a:latin typeface="Verdana"/>
                <a:ea typeface="Times New Roman"/>
              </a:rPr>
              <a:t>Dee</a:t>
            </a:r>
            <a:r>
              <a:rPr b="1" lang="en-US" sz="1800" spc="-1" strike="noStrike">
                <a:solidFill>
                  <a:srgbClr val="888888"/>
                </a:solidFill>
                <a:latin typeface="Verdana"/>
                <a:ea typeface="Times New Roman"/>
              </a:rPr>
              <a:t> in the harbor at Hamilton, Bermuda, in 1863.</a:t>
            </a:r>
            <a:r>
              <a:rPr b="0" lang="en-US" sz="4400" spc="-1" strike="noStrike">
                <a:solidFill>
                  <a:srgbClr val="888888"/>
                </a:solidFill>
                <a:latin typeface="Verdana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.  Battle at Shiloh (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4/1862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  &gt;23,000 casual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  Admiral Farragut seizes Port New Orleans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186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 Union on their way to controlling the Mississippi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.  Battle at Antietam (9/186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est battle yet; &gt;26,000 casu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on saves Washington D.C from Lee and confede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tish no longer willing to support the Confederacy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coln realizes slavery must end once and for all = Emancipation Procla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892920" cy="5121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federate Soldiers @ Antieta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2388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63817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09T19:57:33Z</dcterms:modified>
  <cp:revision>19</cp:revision>
  <dc:subject/>
  <dc:title>PowerPoint Presentation</dc:title>
</cp:coreProperties>
</file>